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493F-1FFE-4090-8B24-40EB1148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B387-588F-4E20-9FB7-BAB5CA85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7081-F238-4F3A-8663-2D1DD779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CD15-15C6-451B-BA83-BE32277E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C333-6156-480C-92D1-D9AD1B60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329A-2F7D-47BC-A1E6-DEAAC5BD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C662-2521-4057-926D-AEE7BF2F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86BD-819E-4C10-A7FC-FBE3C565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27A7-9B13-4E6F-9A84-C0BB1AB8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C611-5B29-422A-B515-60798C9B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C755-F074-4971-A0C3-0BD2D7CE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556F-A620-451C-B76E-370FA73E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2CF8-30D1-4DF2-8877-9E8080E2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C2DA-2E99-4982-875B-6BD2ADD8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D6A3-4769-461C-98BE-04815271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9596-5CB6-468C-BD1A-3FCE479F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0427-44B7-4442-A10B-E56FD476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5E9D-4CFA-485D-9F1C-B5035683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BDED-9C43-4850-956A-7A6A8F2C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8755-788E-4F1E-A800-D778B382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CE68-B4C0-4FF1-982A-FC62D795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D846-D8D2-416F-B0CB-A037F00E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6F01-D737-4E97-9C34-19C79421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FF47-B31C-40D9-A66D-03566A88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C8BE-095B-40DC-A86E-D352954CBCD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3E6B-813A-49C0-946A-AEC29A6070A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447920" y="685800"/>
            <a:ext cx="6324480" cy="297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Hemlich Maneu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: kashae W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ok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king is the body’s way of trying to remove a foreign objec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62320" y="2743200"/>
            <a:ext cx="4495680" cy="3597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uses of Choking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ting (especially eating and laughing at the same time, eating too fast, and failing to chew food well enough.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cohol and drug consumption (even a small amount affects awareness.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uma to the head and face (bleeding can cause choking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mall objects swallowed by children (beads, toy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4295880"/>
            <a:ext cx="1904760" cy="1838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81280" y="4343400"/>
            <a:ext cx="1836720" cy="1847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781680" y="4419720"/>
            <a:ext cx="198144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ck of Oxygen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out oxygen the brain can begin to die within 4 to 6 minutes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learning the Heimlich Maneuver-a simple life-saving technique-you may literally save the life of a choking victim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124080" cy="2498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imlich Maneuver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Heimlich Maneuver is the most effective way to remove something stuck in an adult’s or older child’s throat. (Note: another technique is used for an infant, small child, or when someone becomes unconscious.)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lifts the diaphragm and forces enough air from the lungs to remove the obstructio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1917720" cy="46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en Do I Use The Heimlich?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erson is grabbing the throat with the hand (the universal sign for choking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notice they are gagg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hear a weak ineffective cough, noisy breathing, or high-pitched sound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erson is starting to look blu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3352680" cy="2683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To Do The Heimlich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nd behind the choking person and wrap your arm around his or her wais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ce thumb side of the fist against middle of person’s abdomen just above the navel and well below the rib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ss your fist into the person’s abdomen with quick, upward thrust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peat abdominal thrusts until the object is coughed u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81480" y="1752480"/>
            <a:ext cx="2657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lways remember…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llowing the expulsion of the object, keep the victim still and get medical help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lications can arise from the incident or from the measures that were tak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0" y="3965400"/>
            <a:ext cx="449568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mportant Notice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information is not intended to be a substitute for professional medical advice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licensed physician should be consulted for diagnosis and treatment of all medical condition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15000" y="1523880"/>
            <a:ext cx="2009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1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5:48:31Z</dcterms:created>
  <dc:creator>004student</dc:creator>
  <dc:description/>
  <dc:language>en-US</dc:language>
  <cp:lastModifiedBy>004student</cp:lastModifiedBy>
  <dcterms:modified xsi:type="dcterms:W3CDTF">2008-10-31T15:19:59Z</dcterms:modified>
  <cp:revision>5</cp:revision>
  <dc:subject/>
  <dc:title>.</dc:title>
</cp:coreProperties>
</file>